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50"/>
                </a:solidFill>
                <a:latin typeface="Calibri"/>
              </a:rPr>
              <a:t>Click to move the slide</a:t>
            </a: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2605-2472-4C6C-B152-C3EE2E1DE1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D45F-2FD8-451F-8467-85B85BC5441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1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2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A493-9E3E-4D8C-81E3-ABE6839BD85F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2A3B-1275-4530-BFAF-D09E1D0CF010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6" descr=""/>
          <p:cNvPicPr/>
          <p:nvPr/>
        </p:nvPicPr>
        <p:blipFill>
          <a:blip r:embed="rId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5" descr="brasao.png"/>
          <p:cNvPicPr/>
          <p:nvPr/>
        </p:nvPicPr>
        <p:blipFill>
          <a:blip r:embed="rId6"/>
          <a:stretch/>
        </p:blipFill>
        <p:spPr>
          <a:xfrm>
            <a:off x="4971960" y="4444920"/>
            <a:ext cx="144144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8"/>
          <p:cNvSpPr/>
          <p:nvPr/>
        </p:nvSpPr>
        <p:spPr>
          <a:xfrm>
            <a:off x="4417920" y="61279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m 9" descr=""/>
          <p:cNvPicPr/>
          <p:nvPr/>
        </p:nvPicPr>
        <p:blipFill>
          <a:blip r:embed="rId7"/>
          <a:stretch/>
        </p:blipFill>
        <p:spPr>
          <a:xfrm>
            <a:off x="6993000" y="4459320"/>
            <a:ext cx="2395440" cy="21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87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90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F7E3-52E6-45C8-A3B7-468D756F02C8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6" descr=""/>
          <p:cNvPicPr/>
          <p:nvPr/>
        </p:nvPicPr>
        <p:blipFill>
          <a:blip r:embed="rId5"/>
          <a:stretch/>
        </p:blipFill>
        <p:spPr>
          <a:xfrm>
            <a:off x="0" y="2189160"/>
            <a:ext cx="4821120" cy="351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90680" y="1628280"/>
            <a:ext cx="712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  <a:ea typeface="Arial"/>
              </a:rPr>
              <a:t>Programa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de Regularização Tributária dos Estados e Municípios – PREM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MP 778/2017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ederico Faber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Receita Federal – 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Coordenador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de Cobrança</a:t>
            </a:r>
            <a:br>
              <a:rPr sz="4000"/>
            </a:br>
            <a:br>
              <a:rPr sz="4000"/>
            </a:b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6" name="Retângulo 2"/>
          <p:cNvSpPr/>
          <p:nvPr/>
        </p:nvSpPr>
        <p:spPr>
          <a:xfrm>
            <a:off x="9056520" y="6453360"/>
            <a:ext cx="36216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0" y="189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IVOS E ESCO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14"/>
          <p:cNvSpPr/>
          <p:nvPr/>
        </p:nvSpPr>
        <p:spPr>
          <a:xfrm>
            <a:off x="128520" y="1679400"/>
            <a:ext cx="9433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rograma destinado aos ESTADOS, DISTRITO FEDERAL E MUNICÍPIOS, e das respectivas autarquias e fundações públicas, com vistas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stimular a regularização de passivo tributário das contribuições previdenciárias exigíveis, constituído por declaração do contribuinte ou lançado de ofício, ou parcel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olucionar litígios tributários constantes em ações judici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Permitir a autorregularização de contribuintes que, embora obrigados, não tenham apresentado as declarações à Receita Feder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A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14"/>
          <p:cNvSpPr/>
          <p:nvPr/>
        </p:nvSpPr>
        <p:spPr>
          <a:xfrm>
            <a:off x="344520" y="930240"/>
            <a:ext cx="9217080" cy="58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</a:rPr>
              <a:t>Mod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Uma modalidade no âmbito da RFB e outra na PGFN, com pedidos disti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ara cada âmbito RFB e PGF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ntrada de 2,4% dívida, em 6 parcelas entre julho a dezembro de 2017, calculada sobre o montante total da dívida, sem redu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O restante, com redução de 80% nos juros e 25% nas multas e encargos, </a:t>
            </a: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na menor prestação mensal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equivalente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/194 da dívida consolidada restantes com reduções;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% da média mensal da Receita Corrente Líquida (RCL) do ano anterior (0,5% até a consolidação) – em caso de adesão simultânea à RFB e PGFN este percentual será metade para cada órg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Forma de pagamento das parcelas: retenção no FPE e F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m 1" descr=""/>
          <p:cNvPicPr/>
          <p:nvPr/>
        </p:nvPicPr>
        <p:blipFill>
          <a:blip r:embed="rId1"/>
          <a:stretch/>
        </p:blipFill>
        <p:spPr>
          <a:xfrm>
            <a:off x="738360" y="1025640"/>
            <a:ext cx="835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3:42Z</dcterms:created>
  <dc:creator>Receita Federal</dc:creator>
  <dc:description/>
  <dc:language>en-US</dc:language>
  <cp:lastModifiedBy>Silvana do Socorro Machado Rodrigues - MPS</cp:lastModifiedBy>
  <cp:lastPrinted>2015-05-14T17:45:57Z</cp:lastPrinted>
  <dcterms:modified xsi:type="dcterms:W3CDTF">2017-08-30T17:44:51Z</dcterms:modified>
  <cp:revision>547</cp:revision>
  <dc:subject/>
  <dc:title>Workshop de Estudos e Pesquisa na RFB  Visão geral dos trabalhos realizados pela Copan</dc:title>
</cp:coreProperties>
</file>